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5A8-E70D-4B36-812D-F6135F82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AE9-DF3B-4322-B3AD-1D772FE7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B31-A9FB-4A43-AA4E-04CEC881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250-1E4A-4C32-9722-45AE431C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0E0A-3D9F-487E-92F2-8B51B02D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0837-A2D3-40A1-99FA-FDF03F59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5CB-5CFF-424F-A776-19BD7820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FA3-8E42-4406-916C-A4C2E5C9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4E59-ED7C-4C39-B22A-81E2C18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CCE6-B528-4ECF-A3B6-B01D3BF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2DAC-4DE1-4EB9-958A-A1334D2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762-5AD7-430B-8B6C-80E5CF2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D3E-F714-4438-A1C5-90BCDFD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95F8-384E-435E-837E-025FC9E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86A-8031-449C-AFF5-9E940C9F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F8B8-7B6E-4952-A425-D0498AED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ACEA-0A5D-4FA8-A45D-E0648AE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3AC-C9BE-4259-94EC-3711DB96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239-DFAA-49A8-9A3C-B3646629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F49-4B31-4FCC-9679-EB8D8493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DC1-4F28-4B3A-AA9F-3CC3DAA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2BE-CDE4-4C30-A9BB-96CC284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345-3D25-42CC-B3D8-E845E63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EA9-D7F3-4678-92AD-D779E45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CF46-04EF-46AF-8CFF-05871611B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4BE-0CA4-4270-A1C6-61241B2DC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untercultu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al Upheav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attitude toward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bel Without A Caus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ames D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lessness &amp; frustration of you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age against war in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re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lowered women in trousers &amp; men w/ long 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5312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xual Revolu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control pill,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red Kin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xual Behavior in the Human 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stated that 10% of males were homo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v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y Liberatio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newall,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al attack on gay men by off-duty police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zed gay &amp; lesbian milita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gay liberation movement &amp; fight for gay/lesbi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y Liberation Fron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ed equal rights &amp; social accep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s, parades, m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81800" y="5303880"/>
            <a:ext cx="17622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icano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 Powe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’ Mexican American Youth Organization- contributed to establishing child care, legal aid, housing, employment &amp;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a Unida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racial pride &amp; unity in Mexican-American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-American studies programs on college camp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ian-America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n American Political Al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Asian-Americans &amp; pushed for Asian and ethnic studie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Pow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d the need to establish a common Asian-American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es &amp; demonstr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ive America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Pow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w attention to living conditions on re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ed reparations for treaties broken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battles to acquire return of thousands of acres of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untercultu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ly attributed to 3 “P’s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opulation bul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rotest against racism &amp; Vietnam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ermanence of prospe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92760" y="3733920"/>
            <a:ext cx="2451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20:33:36Z</dcterms:created>
  <dc:creator>emily.johnson</dc:creator>
  <dc:description/>
  <dc:language>en-US</dc:language>
  <cp:lastModifiedBy>emily.johnson</cp:lastModifiedBy>
  <dcterms:modified xsi:type="dcterms:W3CDTF">2013-04-15T20:59:46Z</dcterms:modified>
  <cp:revision>3</cp:revision>
  <dc:subject/>
  <dc:title>Counterculture</dc:title>
</cp:coreProperties>
</file>